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BAF7-BCE4-483A-9B8A-9E5561BC1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99C9-8BA4-4A82-A31F-F8DF0C79D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96D8-4375-4F89-8C5F-852CC75C6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4A26-5755-40D9-9A45-394680856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43945-8B8C-49E0-81AF-25F99BB1D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C83DE-9909-4FD5-97A1-01C12B8AE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64533-28C1-4846-873F-6233DA0BD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C183D-7CA6-4C81-A4EE-53F516D66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3F14C-F5D2-408A-92DB-A7072CFE0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785F6-B4A7-4DE1-AAE7-F1E123E4D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66424-22B2-49E3-A0C1-E6C76050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2839-B70B-487D-BC8F-70F3BE374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3B690-ABD3-4AEB-B809-3476A018E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7810A-F348-4B61-93AC-615B90B7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C569D-781E-4816-B3F5-EEF7A319D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B9B08-F5DE-4B7B-90DF-D19F6E260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70078-44F3-45FF-8CCB-F3E3592FB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B75E-D561-4652-A4B4-CFF14AACF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D874-47D8-4037-88E7-B27634183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EBCB-FB45-4DB1-8D6F-0AADB7EDC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FC93-1CB8-44DD-A5CE-415C4E5B3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CBEF-6B57-4711-8A0E-BB994EAB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CC6F-0F6C-4681-AE85-CFDA6C060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7599-68E0-4959-A449-BB1A7F80E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63898-159B-484B-ADEF-0C7690140FD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2C35F-E0E4-473C-AE5C-E91B197BE69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825480" y="1577880"/>
          <a:ext cx="511812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5480" y="1577880"/>
                    <a:ext cx="511812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18 ГОД И ПЛАНОВЫЙ ПЕРИОД 2019-2020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8-02-01T06:25:27Z</dcterms:modified>
  <cp:revision>40</cp:revision>
  <dc:subject/>
  <dc:title>Структура собственных доходов на 2016 год бюджета Дальнереченского городского округа</dc:title>
</cp:coreProperties>
</file>